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89C-7DCB-4A37-92AE-027C0A80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28E-6CAD-4270-8977-E5409C65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4E2B3-B802-4C54-BB12-B1FB73BE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6BDF4-EBDA-40DA-A6CD-04898A06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18FFE-7B58-48ED-87DB-7CBCE23E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950CF-A274-4273-9BCB-93D70368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950D9-C7B5-4501-BFBE-5D008884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2E469-7ADF-4A4E-A2D2-FB4C1BD1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D4F8E-A641-4F2F-A9C6-AB8768A4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916F2-364B-422D-A718-4EC925AB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37F3A-7575-45FD-B98B-2793329F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4EF68-CC08-471E-84A5-40DD09F9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D73-83C5-4D17-BDED-E353BC1B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C3C25-C9A2-4D17-91C5-B25D77C3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824CB-31E5-4E08-A19E-5F153752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900BF-8ED6-45A5-9FEC-5B2F6BCE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6B4FE-E418-4D7D-BAC2-4AFD0E22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5B594-F27F-4E2E-B1C7-60252DF9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4E248-2C5D-42C8-B192-7A9FFCAF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C78DB-DAAD-4927-96C9-C4C055FA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137DA-EBCA-411C-A7A7-2D899390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0A019-3A73-4EDB-9A3C-A06CF809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C9E8B-BAF8-4FD4-A3AD-0D4544C8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2F6-2C91-4ACC-870C-99BCE160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ED3C9-4C6F-462D-A1DB-DFC85FBF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7AA6C-0733-42C0-988D-6FBB8097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2DD52-F6FF-4B61-B0EC-648ABDB1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B1E52-EAD4-4FCC-9712-094E73EB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98C7E-75CF-4C1A-8AA9-BD4992DC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3034A-BB12-438A-AE84-7CBCC0FB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99AC4-B5B4-42AB-930C-E1BFCFCF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6D587-399F-49D9-B589-B3A81232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C106C-3DEE-4DF9-B483-90E12120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D726D-C954-445F-BABB-F365DB09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9D5D-8BB5-48A8-A3ED-E7B2D46E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452A3-879A-4BCE-84C6-E9AC5563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4F9C7-7891-47F8-B1B6-C8691119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A66C7-C5BF-4572-965D-DE9970BD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2B418-5811-4526-A924-859F178A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2BE59-BBD1-4D55-964B-87EB0FF0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071F4-A8CC-4120-9152-AB95449C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22DB2-CC17-4903-9829-3D270F75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0AF50-3FEA-427F-9543-2E519096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F0502-D7B5-42E9-8718-D0620746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357F4-D764-4730-A9F0-BE647608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5774-855E-4FCE-96A9-4741054E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77779-99F7-4DBD-8EFE-64E35E16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5DF0A-110D-4454-AF15-07AA00B4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C513F-9726-4DD1-A9E6-936B329B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97C95-1BEC-49EF-A94E-265A27BA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B1C58-2A63-4C6E-92D9-93E08709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15D2-9382-4E43-94AC-837D098A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7489-F3B1-46C9-AAD6-BA2C94AF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82D9-7393-4533-BF75-A21A7660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612B-17C8-47C3-87D0-6D1FEEF0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FD00-2FC4-4987-8677-D52A2AEF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75C-BF54-4E5B-996A-69A923CC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AC72-2D1C-47EA-9BE3-D6B3BA6A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5650-803F-42BB-B204-E949CD26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E304-EF3C-463E-A609-B61F3EB8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DA00-67CC-4C00-8084-78C6B36B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C525-C56B-4657-8D12-CC604A07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B4C0-982F-4E03-ADB3-1D012055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CBD15-ED6B-4481-9F89-BD71D5C8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CA18B-BA36-4742-8EC7-C0AB7DD3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A4E7-3CE9-4298-ACD8-38EBE026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301B1-3AEE-43A0-9E2B-3B2DF5DA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834-5BB3-46CB-B0EC-1E2D4EBE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3B94-9F1D-4C21-9822-654F8C82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DC344-9A12-424D-B0E6-C98A2BA7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4A57-2433-4CB4-9E38-671D8762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F6D15-1CF0-43BB-B74F-13A1BED9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D41DF-33D4-43C1-9B6C-793167C5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0870-C49F-493A-894F-D00F7AC6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4198A-A953-4759-BBC8-3A86F61E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B82EF-51FA-4766-8056-12A3BA97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C783-600C-487E-9CE5-19AB3F2E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A6C1F-961A-422B-B54A-3D646F4E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55D-EEC6-4437-A883-D7C68F62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BAF1A-F07A-469B-8359-97C5035A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75DD2-6E63-45E3-A59B-96B3E494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92470-D315-4964-89C1-989B5B37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6B394-08AA-4A08-BD1F-CE7DA48A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4ADC2-15D3-4476-9E1F-898D8F76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492AD-B388-47C6-9E87-90B25149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5743B-85C5-4ADB-B641-8729E06B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26035-CA18-4675-B8C0-70AC2CE9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2CB57-2B8D-47B9-B9F7-B4E4EC42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BB952-EC65-4625-B72E-94150EA5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5E4-E9CA-48FD-8E96-925B4CAC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054A3-01CE-4274-B45A-98E96237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20A40-3422-4BC1-A2B3-7BC78EB6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E8FFA-500A-4F17-BDFB-6DAEF236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DC297-654C-44D8-8A01-8FA86CD2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9CC2C-F0EC-430C-9527-95AE354D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D62A8-60EC-43DD-BF82-E1F315C9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072C0-66C9-4C68-A8A0-C30AEE45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74AD0-36CA-4A22-B67C-2AC28C5B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E3E6A-DD41-4469-9902-1B386652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9FF08-C9C8-48B0-AAA5-7FF6660C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316-1D34-4539-BA68-A47C0CF3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AF07B-8CAD-4F1B-B55D-F8A5335D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2123C-9C97-4CD2-BD8B-D9FA4206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EB7A1-B9C7-407F-BDC3-49A1D320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E10F9-52A0-4D89-9C82-F39FC724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91F85-C471-4655-899E-73378202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9C247-88FC-4788-9B30-36F8CBF4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707E1-45D4-42ED-9B1F-F1297C32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EFA41-B300-45EE-A10F-9EF4E480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2D93F-A57B-45E1-A876-11EAA859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4C07A-44D7-4CB8-97B2-A0BA4D8E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198-A864-4538-B316-D18D8E25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A910D-ED5F-4961-8F81-802329E7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13568-147F-4486-9FE8-AF9A3182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26E2B-4328-4E84-B766-4647983E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39939-6474-48DC-B0AB-5AF17ACE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5408B-0F27-4174-83E3-A9C9A0F8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1585E-4978-4EFB-84DE-CF020E59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5045A-DC00-41E8-98E6-C3F880AA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6A153-DB35-4954-8000-E0EABFCC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C569E-55A0-4F30-ACAC-306BCF0D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4DACA-0850-41E3-AECD-E9F8E475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DDF-BFDD-438F-B8C2-46A7FA8D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0671B-14F2-46F9-8509-4A6BF37C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AC1E9-7FA3-44BF-ACBB-30A8F295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34A5F-5202-4641-81B6-D47833B8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152D8-51F0-4136-800E-6E3BB3C8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40F7A-20B1-4C5A-9A6A-068007D0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E7D20-E73B-465C-8F0F-5809176A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28F8F-895B-479C-BC30-579C3096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0CF05-6E4D-4DAE-920C-0C7395D5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AB478-FAB9-4443-83DF-F4F73D96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00DCE-2F41-40C7-8F1D-E42E3011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A9D-25D2-4184-BF6B-648AD1E8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2B121-DB94-47C2-B764-D12C1F64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FA81F-2530-4C58-9ECE-6109ED84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A8FE7-87A9-40B7-B398-0F8EBCDC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641FD-F523-42DB-B5BA-750E81B1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1684D-D4A6-4C75-8511-EA8F7395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DCE6B-B62E-4AC5-950C-7B35D249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DF06B-F3E9-4969-8752-E8A8E269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347F4-BBCF-41A1-92F0-8C0814E2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BC0FD-0B6A-4BCA-A01B-5960ADD1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49D31-EAD7-4E4A-94BC-E5C55D0A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276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277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277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277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277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277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277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0C20-BC50-4554-B5E5-C5BDE97AC69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299D-BFA3-4A3D-8027-4D25D01ABD7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CDAD-92EC-4109-9266-A093D5CCAEA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0267-9379-470F-81AC-115545340E2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379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379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379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379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379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379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379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59F9-0238-491E-8278-0A267879300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5BB1-B45D-4E39-BA9C-EA45B9A1ACF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088A-0BFE-4EAA-8713-6EE0E404219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5F48-C2DB-4F22-A036-F8B2EF874BC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339A-998F-4414-915A-66C90053F89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04EE-46CE-405D-9584-3381615DCB9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6C7A-972D-4409-920B-A787CA1F1DD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F284-FFFA-4E8E-84F8-3CC813C9FF5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2" descr=""/>
          <p:cNvPicPr/>
          <p:nvPr/>
        </p:nvPicPr>
        <p:blipFill>
          <a:blip r:embed="rId1"/>
          <a:stretch/>
        </p:blipFill>
        <p:spPr>
          <a:xfrm>
            <a:off x="1181160" y="2098800"/>
            <a:ext cx="7242120" cy="4190760"/>
          </a:xfrm>
          <a:prstGeom prst="rect">
            <a:avLst/>
          </a:prstGeom>
          <a:ln w="0">
            <a:noFill/>
          </a:ln>
        </p:spPr>
      </p:pic>
      <p:sp>
        <p:nvSpPr>
          <p:cNvPr id="507" name="TextBox 1"/>
          <p:cNvSpPr/>
          <p:nvPr/>
        </p:nvSpPr>
        <p:spPr>
          <a:xfrm>
            <a:off x="1547640" y="1206360"/>
            <a:ext cx="60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6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一封信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标题 1" descr=""/>
          <p:cNvPicPr/>
          <p:nvPr/>
        </p:nvPicPr>
        <p:blipFill>
          <a:blip r:embed="rId1"/>
          <a:stretch/>
        </p:blipFill>
        <p:spPr>
          <a:xfrm>
            <a:off x="-1692360" y="119700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1115640" y="2998800"/>
            <a:ext cx="7056360" cy="196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c2c1d3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请同学们自由读第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自然段，找出描写第一次写信的句子，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3"/>
          <p:cNvSpPr/>
          <p:nvPr/>
        </p:nvSpPr>
        <p:spPr>
          <a:xfrm>
            <a:off x="647640" y="1123920"/>
            <a:ext cx="814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A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亲爱的爸爸，你不在，我们很不开心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B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以前每天早上你一边刮胡子，一边逗我玩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C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还有，家里的台灯坏了，我们修不好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D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从早到晚，家里总是很冷清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矩形 1"/>
          <p:cNvSpPr/>
          <p:nvPr/>
        </p:nvSpPr>
        <p:spPr>
          <a:xfrm>
            <a:off x="6138360" y="189000"/>
            <a:ext cx="6883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ccccff"/>
                </a:solidFill>
                <a:uFillTx/>
                <a:latin typeface="Arial"/>
                <a:ea typeface="宋体"/>
              </a:rPr>
              <a:t>第一封信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3" dur="500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8" dur="500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2123640" y="2925720"/>
            <a:ext cx="47005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ff0000"/>
                </a:solidFill>
                <a:latin typeface="楷体"/>
                <a:ea typeface="楷体"/>
              </a:rPr>
              <a:t>一边……一边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1"/>
          <p:cNvSpPr/>
          <p:nvPr/>
        </p:nvSpPr>
        <p:spPr>
          <a:xfrm>
            <a:off x="2131560" y="17002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谁会用下面的句式说话呢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6" name="下箭头 3"/>
          <p:cNvSpPr/>
          <p:nvPr/>
        </p:nvSpPr>
        <p:spPr>
          <a:xfrm rot="18786600">
            <a:off x="3657240" y="3777840"/>
            <a:ext cx="649440" cy="649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7" name="矩形 4"/>
          <p:cNvSpPr/>
          <p:nvPr/>
        </p:nvSpPr>
        <p:spPr>
          <a:xfrm>
            <a:off x="4339080" y="4560840"/>
            <a:ext cx="2375280" cy="642600"/>
          </a:xfrm>
          <a:prstGeom prst="rect">
            <a:avLst/>
          </a:prstGeom>
          <a:solidFill>
            <a:srgbClr val="e2e2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两个动作同时进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3"/>
          <p:cNvSpPr/>
          <p:nvPr/>
        </p:nvSpPr>
        <p:spPr>
          <a:xfrm>
            <a:off x="971640" y="1484280"/>
            <a:ext cx="77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A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亲爱的爸爸，我们过得挺好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B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太阳闪闪发光。阳光下，我们的希比希又蹦又跳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C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请爸爸告诉我们，螺丝刀放在哪儿了。这样，我们就能自己修台灯了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D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下个星期天我们去看电影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E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爸爸，我们天天想你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9" name="矩形 2"/>
          <p:cNvSpPr/>
          <p:nvPr/>
        </p:nvSpPr>
        <p:spPr>
          <a:xfrm>
            <a:off x="5782680" y="189000"/>
            <a:ext cx="140004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ccccff"/>
                </a:solidFill>
                <a:uFillTx/>
                <a:latin typeface="Arial"/>
                <a:ea typeface="宋体"/>
              </a:rPr>
              <a:t>第二封信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0" name="矩形 1"/>
          <p:cNvSpPr/>
          <p:nvPr/>
        </p:nvSpPr>
        <p:spPr>
          <a:xfrm>
            <a:off x="2612520" y="5678640"/>
            <a:ext cx="45698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读读这几句话，看看你读懂了什么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?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标题 1" descr=""/>
          <p:cNvPicPr/>
          <p:nvPr/>
        </p:nvPicPr>
        <p:blipFill>
          <a:blip r:embed="rId1"/>
          <a:stretch/>
        </p:blipFill>
        <p:spPr>
          <a:xfrm>
            <a:off x="682560" y="1413000"/>
            <a:ext cx="5221440" cy="11430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>
            <a:off x="2195640" y="2925360"/>
            <a:ext cx="5905440" cy="19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c2c1d3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比较露西前后写的两封信，你更喜欢哪一封，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74" name="矩形 2"/>
          <p:cNvSpPr/>
          <p:nvPr/>
        </p:nvSpPr>
        <p:spPr>
          <a:xfrm>
            <a:off x="3060000" y="225432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3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再见</a:t>
            </a:r>
            <a:endParaRPr b="0" i="1" lang="en-US" sz="1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标题 1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第一课时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矩形 4" descr=""/>
          <p:cNvPicPr/>
          <p:nvPr/>
        </p:nvPicPr>
        <p:blipFill>
          <a:blip r:embed="rId1"/>
          <a:stretch/>
        </p:blipFill>
        <p:spPr>
          <a:xfrm>
            <a:off x="782640" y="1263600"/>
            <a:ext cx="3103560" cy="835200"/>
          </a:xfrm>
          <a:prstGeom prst="rect">
            <a:avLst/>
          </a:prstGeom>
          <a:ln w="0">
            <a:noFill/>
          </a:ln>
        </p:spPr>
      </p:pic>
      <p:sp>
        <p:nvSpPr>
          <p:cNvPr id="510" name="矩形 3"/>
          <p:cNvSpPr/>
          <p:nvPr/>
        </p:nvSpPr>
        <p:spPr>
          <a:xfrm>
            <a:off x="900000" y="227664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准字音，不认识的字查字典或请教老师同学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顺句子，不唱读，不回读，注意语气和语调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把容易读错的字和句子多读几遍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看看这篇短文一共有几个自然段？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4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2378160" cy="21560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1557000" y="1125000"/>
            <a:ext cx="748836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cc"/>
                </a:solidFill>
                <a:latin typeface="Arial"/>
              </a:rPr>
              <a:t>f ē ng xìn   jīn   xiě  zh ī  yuá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Arial"/>
              </a:rPr>
              <a:t>封      信   今    写   枝    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sz="4800" spc="-1" strike="noStrike">
                <a:solidFill>
                  <a:srgbClr val="0000cc"/>
                </a:solidFill>
                <a:latin typeface="Arial"/>
              </a:rPr>
              <a:t>zhū   bǐ   dēnɡ   diàn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4800" spc="-1" strike="noStrike">
                <a:solidFill>
                  <a:srgbClr val="000000"/>
                </a:solidFill>
                <a:latin typeface="Arial"/>
              </a:rPr>
              <a:t>珠    笔      灯       电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915840" y="1409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封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刮胡子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修灯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重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新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束鲜花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团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冷清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沓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朝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图片 3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303640" cy="2938320"/>
          </a:xfrm>
          <a:prstGeom prst="rect">
            <a:avLst/>
          </a:prstGeom>
          <a:ln w="0">
            <a:noFill/>
          </a:ln>
        </p:spPr>
      </p:pic>
      <p:sp>
        <p:nvSpPr>
          <p:cNvPr id="515" name="矩形 1"/>
          <p:cNvSpPr/>
          <p:nvPr/>
        </p:nvSpPr>
        <p:spPr>
          <a:xfrm>
            <a:off x="6365520" y="141912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cc"/>
                </a:solidFill>
                <a:uFillTx/>
                <a:latin typeface="Verdana"/>
                <a:ea typeface="宋体"/>
              </a:rPr>
              <a:t>chóng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矩形 4"/>
          <p:cNvSpPr/>
          <p:nvPr/>
        </p:nvSpPr>
        <p:spPr>
          <a:xfrm>
            <a:off x="4556880" y="446724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cc"/>
                </a:solidFill>
                <a:uFillTx/>
                <a:latin typeface="Verdana"/>
                <a:ea typeface="宋体"/>
              </a:rPr>
              <a:t>cháo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6444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xiāo tǔ dòu      guō lǐ     jiānbǎ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削 土 豆   锅 里  肩 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xiě wán   xīng q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写 完   星 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3" descr=""/>
          <p:cNvPicPr/>
          <p:nvPr/>
        </p:nvPicPr>
        <p:blipFill>
          <a:blip r:embed="rId1"/>
          <a:stretch/>
        </p:blipFill>
        <p:spPr>
          <a:xfrm>
            <a:off x="5900760" y="2725560"/>
            <a:ext cx="2303280" cy="29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矩形 11"/>
          <p:cNvSpPr/>
          <p:nvPr/>
        </p:nvSpPr>
        <p:spPr>
          <a:xfrm>
            <a:off x="1002240" y="20001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朝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左大括号 12"/>
          <p:cNvSpPr/>
          <p:nvPr/>
        </p:nvSpPr>
        <p:spPr>
          <a:xfrm>
            <a:off x="1714680" y="1700280"/>
            <a:ext cx="215640" cy="1682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5400 h 1682640"/>
              <a:gd name="textAreaBottom" fmla="*/ 1677240 h 168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"/>
                  <a:pt x="10800" y="228"/>
                </a:cubicBezTo>
                <a:lnTo>
                  <a:pt x="10800" y="10572"/>
                </a:lnTo>
                <a:cubicBezTo>
                  <a:pt x="10800" y="10686"/>
                  <a:pt x="5400" y="10800"/>
                  <a:pt x="0" y="10800"/>
                </a:cubicBezTo>
                <a:cubicBezTo>
                  <a:pt x="5400" y="10800"/>
                  <a:pt x="10800" y="10914"/>
                  <a:pt x="10800" y="11028"/>
                </a:cubicBezTo>
                <a:lnTo>
                  <a:pt x="10800" y="21372"/>
                </a:lnTo>
                <a:cubicBezTo>
                  <a:pt x="10800" y="2148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矩形 13"/>
          <p:cNvSpPr/>
          <p:nvPr/>
        </p:nvSpPr>
        <p:spPr>
          <a:xfrm>
            <a:off x="1978560" y="1346040"/>
            <a:ext cx="12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á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o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矩形 14"/>
          <p:cNvSpPr/>
          <p:nvPr/>
        </p:nvSpPr>
        <p:spPr>
          <a:xfrm>
            <a:off x="1950480" y="2797200"/>
            <a:ext cx="12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āo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矩形 15"/>
          <p:cNvSpPr/>
          <p:nvPr/>
        </p:nvSpPr>
        <p:spPr>
          <a:xfrm>
            <a:off x="3267720" y="1457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（朝向）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矩形 16"/>
          <p:cNvSpPr/>
          <p:nvPr/>
        </p:nvSpPr>
        <p:spPr>
          <a:xfrm>
            <a:off x="3275640" y="2828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（朝阳）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矩形 17"/>
          <p:cNvSpPr/>
          <p:nvPr/>
        </p:nvSpPr>
        <p:spPr>
          <a:xfrm>
            <a:off x="3952080" y="41432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重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左大括号 18"/>
          <p:cNvSpPr/>
          <p:nvPr/>
        </p:nvSpPr>
        <p:spPr>
          <a:xfrm>
            <a:off x="4664160" y="3844800"/>
            <a:ext cx="215640" cy="16812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400 h 1681200"/>
              <a:gd name="textAreaBottom" fmla="*/ 1675800 h 168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"/>
                  <a:pt x="10800" y="228"/>
                </a:cubicBezTo>
                <a:lnTo>
                  <a:pt x="10800" y="10572"/>
                </a:lnTo>
                <a:cubicBezTo>
                  <a:pt x="10800" y="10686"/>
                  <a:pt x="5400" y="10800"/>
                  <a:pt x="0" y="10800"/>
                </a:cubicBezTo>
                <a:cubicBezTo>
                  <a:pt x="5400" y="10800"/>
                  <a:pt x="10800" y="10914"/>
                  <a:pt x="10800" y="11028"/>
                </a:cubicBezTo>
                <a:lnTo>
                  <a:pt x="10800" y="21372"/>
                </a:lnTo>
                <a:cubicBezTo>
                  <a:pt x="10800" y="2148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矩形 19"/>
          <p:cNvSpPr/>
          <p:nvPr/>
        </p:nvSpPr>
        <p:spPr>
          <a:xfrm>
            <a:off x="4880880" y="3490920"/>
            <a:ext cx="15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óng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矩形 20"/>
          <p:cNvSpPr/>
          <p:nvPr/>
        </p:nvSpPr>
        <p:spPr>
          <a:xfrm>
            <a:off x="4847760" y="4948200"/>
            <a:ext cx="18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ònɡ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矩形 21"/>
          <p:cNvSpPr/>
          <p:nvPr/>
        </p:nvSpPr>
        <p:spPr>
          <a:xfrm>
            <a:off x="6553800" y="361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（重新）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矩形 22"/>
          <p:cNvSpPr/>
          <p:nvPr/>
        </p:nvSpPr>
        <p:spPr>
          <a:xfrm>
            <a:off x="6553800" y="5057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（重量）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95280" y="122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选择正确的读音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sz="3600" spc="-1" strike="noStrike">
                <a:solidFill>
                  <a:srgbClr val="000000"/>
                </a:solidFill>
                <a:latin typeface="Arial"/>
              </a:rPr>
              <a:t>这棵向日葵总是朝（  ）向太阳生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sz="3600" spc="-1" strike="noStrike">
                <a:solidFill>
                  <a:srgbClr val="000000"/>
                </a:solidFill>
                <a:latin typeface="Arial"/>
              </a:rPr>
              <a:t>早晨，我们迎着朝（  ）阳上学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sz="3600" spc="-1" strike="noStrike">
                <a:solidFill>
                  <a:srgbClr val="000000"/>
                </a:solidFill>
                <a:latin typeface="Arial"/>
              </a:rPr>
              <a:t>我又重（   ）新称了一下重（   ）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3"/>
          <p:cNvSpPr/>
          <p:nvPr/>
        </p:nvSpPr>
        <p:spPr>
          <a:xfrm>
            <a:off x="1516680" y="2133720"/>
            <a:ext cx="12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á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o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矩形 4"/>
          <p:cNvSpPr/>
          <p:nvPr/>
        </p:nvSpPr>
        <p:spPr>
          <a:xfrm>
            <a:off x="2831400" y="2133720"/>
            <a:ext cx="12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āo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矩形 5"/>
          <p:cNvSpPr/>
          <p:nvPr/>
        </p:nvSpPr>
        <p:spPr>
          <a:xfrm>
            <a:off x="4147200" y="2133720"/>
            <a:ext cx="15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óng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矩形 6"/>
          <p:cNvSpPr/>
          <p:nvPr/>
        </p:nvSpPr>
        <p:spPr>
          <a:xfrm>
            <a:off x="5871960" y="2133720"/>
            <a:ext cx="18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ònɡ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8"/>
          <p:cNvSpPr/>
          <p:nvPr/>
        </p:nvSpPr>
        <p:spPr>
          <a:xfrm>
            <a:off x="5846040" y="555480"/>
            <a:ext cx="1521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写字有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7" name="Group 29"/>
          <p:cNvGrpSpPr/>
          <p:nvPr/>
        </p:nvGrpSpPr>
        <p:grpSpPr>
          <a:xfrm>
            <a:off x="3355920" y="2000160"/>
            <a:ext cx="1503360" cy="1359000"/>
            <a:chOff x="3355920" y="2000160"/>
            <a:chExt cx="1503360" cy="1359000"/>
          </a:xfrm>
        </p:grpSpPr>
        <p:sp>
          <p:nvSpPr>
            <p:cNvPr id="538" name="Rectangle 30"/>
            <p:cNvSpPr/>
            <p:nvPr/>
          </p:nvSpPr>
          <p:spPr>
            <a:xfrm>
              <a:off x="4107600" y="2674080"/>
              <a:ext cx="7513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9" name="Rectangle 31"/>
            <p:cNvSpPr/>
            <p:nvPr/>
          </p:nvSpPr>
          <p:spPr>
            <a:xfrm>
              <a:off x="3355920" y="2674080"/>
              <a:ext cx="751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0" name="Rectangle 32"/>
            <p:cNvSpPr/>
            <p:nvPr/>
          </p:nvSpPr>
          <p:spPr>
            <a:xfrm>
              <a:off x="4107600" y="2000160"/>
              <a:ext cx="75132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1" name="Rectangle 33"/>
            <p:cNvSpPr/>
            <p:nvPr/>
          </p:nvSpPr>
          <p:spPr>
            <a:xfrm>
              <a:off x="3355920" y="2000160"/>
              <a:ext cx="7516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2" name="Line 34"/>
            <p:cNvSpPr/>
            <p:nvPr/>
          </p:nvSpPr>
          <p:spPr>
            <a:xfrm>
              <a:off x="3355920" y="20001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3" name="Line 35"/>
            <p:cNvSpPr/>
            <p:nvPr/>
          </p:nvSpPr>
          <p:spPr>
            <a:xfrm>
              <a:off x="3355920" y="26740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4" name="Line 36"/>
            <p:cNvSpPr/>
            <p:nvPr/>
          </p:nvSpPr>
          <p:spPr>
            <a:xfrm>
              <a:off x="3355920" y="33591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5" name="Line 37"/>
            <p:cNvSpPr/>
            <p:nvPr/>
          </p:nvSpPr>
          <p:spPr>
            <a:xfrm>
              <a:off x="3355920" y="200016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6" name="Line 38"/>
            <p:cNvSpPr/>
            <p:nvPr/>
          </p:nvSpPr>
          <p:spPr>
            <a:xfrm>
              <a:off x="4107600" y="200016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7" name="Line 39"/>
            <p:cNvSpPr/>
            <p:nvPr/>
          </p:nvSpPr>
          <p:spPr>
            <a:xfrm>
              <a:off x="4859280" y="200016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8" name="Text Box 40"/>
          <p:cNvSpPr/>
          <p:nvPr/>
        </p:nvSpPr>
        <p:spPr>
          <a:xfrm>
            <a:off x="3492360" y="188928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今</a:t>
            </a: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9" name="Group 29"/>
          <p:cNvGrpSpPr/>
          <p:nvPr/>
        </p:nvGrpSpPr>
        <p:grpSpPr>
          <a:xfrm>
            <a:off x="5013360" y="2011320"/>
            <a:ext cx="1503360" cy="1359000"/>
            <a:chOff x="5013360" y="2011320"/>
            <a:chExt cx="1503360" cy="1359000"/>
          </a:xfrm>
        </p:grpSpPr>
        <p:sp>
          <p:nvSpPr>
            <p:cNvPr id="550" name="Rectangle 30"/>
            <p:cNvSpPr/>
            <p:nvPr/>
          </p:nvSpPr>
          <p:spPr>
            <a:xfrm>
              <a:off x="5765040" y="2685240"/>
              <a:ext cx="7513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1" name="Rectangle 31"/>
            <p:cNvSpPr/>
            <p:nvPr/>
          </p:nvSpPr>
          <p:spPr>
            <a:xfrm>
              <a:off x="5013360" y="2685240"/>
              <a:ext cx="751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2" name="Rectangle 32"/>
            <p:cNvSpPr/>
            <p:nvPr/>
          </p:nvSpPr>
          <p:spPr>
            <a:xfrm>
              <a:off x="5765040" y="2011320"/>
              <a:ext cx="75132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3" name="Rectangle 33"/>
            <p:cNvSpPr/>
            <p:nvPr/>
          </p:nvSpPr>
          <p:spPr>
            <a:xfrm>
              <a:off x="5013360" y="2011320"/>
              <a:ext cx="7516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4" name="Line 34"/>
            <p:cNvSpPr/>
            <p:nvPr/>
          </p:nvSpPr>
          <p:spPr>
            <a:xfrm>
              <a:off x="5013360" y="20113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5" name="Line 35"/>
            <p:cNvSpPr/>
            <p:nvPr/>
          </p:nvSpPr>
          <p:spPr>
            <a:xfrm>
              <a:off x="5013360" y="26852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6" name="Line 36"/>
            <p:cNvSpPr/>
            <p:nvPr/>
          </p:nvSpPr>
          <p:spPr>
            <a:xfrm>
              <a:off x="5013360" y="33703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7" name="Line 37"/>
            <p:cNvSpPr/>
            <p:nvPr/>
          </p:nvSpPr>
          <p:spPr>
            <a:xfrm>
              <a:off x="5013360" y="201132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>
              <a:off x="5765040" y="201132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9" name="Line 39"/>
            <p:cNvSpPr/>
            <p:nvPr/>
          </p:nvSpPr>
          <p:spPr>
            <a:xfrm>
              <a:off x="6516720" y="201132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0" name="Text Box 40"/>
          <p:cNvSpPr/>
          <p:nvPr/>
        </p:nvSpPr>
        <p:spPr>
          <a:xfrm>
            <a:off x="5076720" y="190008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写</a:t>
            </a: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1" name="Group 29"/>
          <p:cNvGrpSpPr/>
          <p:nvPr/>
        </p:nvGrpSpPr>
        <p:grpSpPr>
          <a:xfrm>
            <a:off x="6667560" y="2011320"/>
            <a:ext cx="1504800" cy="1359000"/>
            <a:chOff x="6667560" y="2011320"/>
            <a:chExt cx="1504800" cy="1359000"/>
          </a:xfrm>
        </p:grpSpPr>
        <p:sp>
          <p:nvSpPr>
            <p:cNvPr id="562" name="Rectangle 30"/>
            <p:cNvSpPr/>
            <p:nvPr/>
          </p:nvSpPr>
          <p:spPr>
            <a:xfrm>
              <a:off x="7419960" y="2685240"/>
              <a:ext cx="75204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3" name="Rectangle 31"/>
            <p:cNvSpPr/>
            <p:nvPr/>
          </p:nvSpPr>
          <p:spPr>
            <a:xfrm>
              <a:off x="6667560" y="2685240"/>
              <a:ext cx="75240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4" name="Rectangle 32"/>
            <p:cNvSpPr/>
            <p:nvPr/>
          </p:nvSpPr>
          <p:spPr>
            <a:xfrm>
              <a:off x="7419960" y="2011320"/>
              <a:ext cx="75204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5" name="Rectangle 33"/>
            <p:cNvSpPr/>
            <p:nvPr/>
          </p:nvSpPr>
          <p:spPr>
            <a:xfrm>
              <a:off x="6667560" y="2011320"/>
              <a:ext cx="75240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6" name="Line 34"/>
            <p:cNvSpPr/>
            <p:nvPr/>
          </p:nvSpPr>
          <p:spPr>
            <a:xfrm>
              <a:off x="6667560" y="201132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7" name="Line 35"/>
            <p:cNvSpPr/>
            <p:nvPr/>
          </p:nvSpPr>
          <p:spPr>
            <a:xfrm>
              <a:off x="6667560" y="268524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8" name="Line 36"/>
            <p:cNvSpPr/>
            <p:nvPr/>
          </p:nvSpPr>
          <p:spPr>
            <a:xfrm>
              <a:off x="6667560" y="337032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9" name="Line 37"/>
            <p:cNvSpPr/>
            <p:nvPr/>
          </p:nvSpPr>
          <p:spPr>
            <a:xfrm>
              <a:off x="6667560" y="201132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0" name="Line 38"/>
            <p:cNvSpPr/>
            <p:nvPr/>
          </p:nvSpPr>
          <p:spPr>
            <a:xfrm>
              <a:off x="7419960" y="201132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1" name="Line 39"/>
            <p:cNvSpPr/>
            <p:nvPr/>
          </p:nvSpPr>
          <p:spPr>
            <a:xfrm>
              <a:off x="8172360" y="201132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2" name="Text Box 40"/>
          <p:cNvSpPr/>
          <p:nvPr/>
        </p:nvSpPr>
        <p:spPr>
          <a:xfrm>
            <a:off x="6659640" y="190008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圆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73" name="Group 29"/>
          <p:cNvGrpSpPr/>
          <p:nvPr/>
        </p:nvGrpSpPr>
        <p:grpSpPr>
          <a:xfrm>
            <a:off x="1987560" y="3963960"/>
            <a:ext cx="1504800" cy="1360440"/>
            <a:chOff x="1987560" y="3963960"/>
            <a:chExt cx="1504800" cy="1360440"/>
          </a:xfrm>
        </p:grpSpPr>
        <p:sp>
          <p:nvSpPr>
            <p:cNvPr id="574" name="Rectangle 30"/>
            <p:cNvSpPr/>
            <p:nvPr/>
          </p:nvSpPr>
          <p:spPr>
            <a:xfrm>
              <a:off x="2739960" y="463860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5" name="Rectangle 31"/>
            <p:cNvSpPr/>
            <p:nvPr/>
          </p:nvSpPr>
          <p:spPr>
            <a:xfrm>
              <a:off x="1987560" y="463860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6" name="Rectangle 32"/>
            <p:cNvSpPr/>
            <p:nvPr/>
          </p:nvSpPr>
          <p:spPr>
            <a:xfrm>
              <a:off x="2739960" y="396396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7" name="Rectangle 33"/>
            <p:cNvSpPr/>
            <p:nvPr/>
          </p:nvSpPr>
          <p:spPr>
            <a:xfrm>
              <a:off x="1987560" y="396396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8" name="Line 34"/>
            <p:cNvSpPr/>
            <p:nvPr/>
          </p:nvSpPr>
          <p:spPr>
            <a:xfrm>
              <a:off x="1987560" y="396396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9" name="Line 35"/>
            <p:cNvSpPr/>
            <p:nvPr/>
          </p:nvSpPr>
          <p:spPr>
            <a:xfrm>
              <a:off x="1987560" y="463860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0" name="Line 36"/>
            <p:cNvSpPr/>
            <p:nvPr/>
          </p:nvSpPr>
          <p:spPr>
            <a:xfrm>
              <a:off x="1987560" y="532440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1" name="Line 37"/>
            <p:cNvSpPr/>
            <p:nvPr/>
          </p:nvSpPr>
          <p:spPr>
            <a:xfrm>
              <a:off x="1987560" y="396396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2" name="Line 38"/>
            <p:cNvSpPr/>
            <p:nvPr/>
          </p:nvSpPr>
          <p:spPr>
            <a:xfrm>
              <a:off x="2739960" y="396396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3" name="Line 39"/>
            <p:cNvSpPr/>
            <p:nvPr/>
          </p:nvSpPr>
          <p:spPr>
            <a:xfrm>
              <a:off x="3492360" y="396396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4" name="Text Box 40"/>
          <p:cNvSpPr/>
          <p:nvPr/>
        </p:nvSpPr>
        <p:spPr>
          <a:xfrm>
            <a:off x="2124000" y="385452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珠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5" name="Group 29"/>
          <p:cNvGrpSpPr/>
          <p:nvPr/>
        </p:nvGrpSpPr>
        <p:grpSpPr>
          <a:xfrm>
            <a:off x="3643200" y="3959280"/>
            <a:ext cx="1505160" cy="1359000"/>
            <a:chOff x="3643200" y="3959280"/>
            <a:chExt cx="1505160" cy="1359000"/>
          </a:xfrm>
        </p:grpSpPr>
        <p:sp>
          <p:nvSpPr>
            <p:cNvPr id="586" name="Rectangle 30"/>
            <p:cNvSpPr/>
            <p:nvPr/>
          </p:nvSpPr>
          <p:spPr>
            <a:xfrm>
              <a:off x="4395960" y="4633200"/>
              <a:ext cx="75240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7" name="Rectangle 31"/>
            <p:cNvSpPr/>
            <p:nvPr/>
          </p:nvSpPr>
          <p:spPr>
            <a:xfrm>
              <a:off x="3643200" y="4633200"/>
              <a:ext cx="75276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8" name="Rectangle 32"/>
            <p:cNvSpPr/>
            <p:nvPr/>
          </p:nvSpPr>
          <p:spPr>
            <a:xfrm>
              <a:off x="4395960" y="3959280"/>
              <a:ext cx="75240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9" name="Rectangle 33"/>
            <p:cNvSpPr/>
            <p:nvPr/>
          </p:nvSpPr>
          <p:spPr>
            <a:xfrm>
              <a:off x="3643200" y="3959280"/>
              <a:ext cx="7527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0" name="Line 34"/>
            <p:cNvSpPr/>
            <p:nvPr/>
          </p:nvSpPr>
          <p:spPr>
            <a:xfrm>
              <a:off x="3643200" y="3959280"/>
              <a:ext cx="15051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1" name="Line 35"/>
            <p:cNvSpPr/>
            <p:nvPr/>
          </p:nvSpPr>
          <p:spPr>
            <a:xfrm>
              <a:off x="3643200" y="4633200"/>
              <a:ext cx="1505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2" name="Line 36"/>
            <p:cNvSpPr/>
            <p:nvPr/>
          </p:nvSpPr>
          <p:spPr>
            <a:xfrm>
              <a:off x="3643200" y="5318280"/>
              <a:ext cx="15051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3" name="Line 37"/>
            <p:cNvSpPr/>
            <p:nvPr/>
          </p:nvSpPr>
          <p:spPr>
            <a:xfrm>
              <a:off x="3643200" y="395928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4" name="Line 38"/>
            <p:cNvSpPr/>
            <p:nvPr/>
          </p:nvSpPr>
          <p:spPr>
            <a:xfrm>
              <a:off x="4395960" y="395928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5" name="Line 39"/>
            <p:cNvSpPr/>
            <p:nvPr/>
          </p:nvSpPr>
          <p:spPr>
            <a:xfrm>
              <a:off x="5148360" y="395928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96" name="Text Box 40"/>
          <p:cNvSpPr/>
          <p:nvPr/>
        </p:nvSpPr>
        <p:spPr>
          <a:xfrm>
            <a:off x="3708360" y="384804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笔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Rectangle 1"/>
          <p:cNvSpPr/>
          <p:nvPr/>
        </p:nvSpPr>
        <p:spPr>
          <a:xfrm>
            <a:off x="2316600" y="1346400"/>
            <a:ext cx="20376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8" name="Group 29"/>
          <p:cNvGrpSpPr/>
          <p:nvPr/>
        </p:nvGrpSpPr>
        <p:grpSpPr>
          <a:xfrm>
            <a:off x="5227560" y="3952800"/>
            <a:ext cx="1505160" cy="1360440"/>
            <a:chOff x="5227560" y="3952800"/>
            <a:chExt cx="1505160" cy="1360440"/>
          </a:xfrm>
        </p:grpSpPr>
        <p:sp>
          <p:nvSpPr>
            <p:cNvPr id="599" name="Rectangle 30"/>
            <p:cNvSpPr/>
            <p:nvPr/>
          </p:nvSpPr>
          <p:spPr>
            <a:xfrm>
              <a:off x="5980320" y="462744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0" name="Rectangle 31"/>
            <p:cNvSpPr/>
            <p:nvPr/>
          </p:nvSpPr>
          <p:spPr>
            <a:xfrm>
              <a:off x="5227560" y="4627440"/>
              <a:ext cx="752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1" name="Rectangle 32"/>
            <p:cNvSpPr/>
            <p:nvPr/>
          </p:nvSpPr>
          <p:spPr>
            <a:xfrm>
              <a:off x="5980320" y="395280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2" name="Rectangle 33"/>
            <p:cNvSpPr/>
            <p:nvPr/>
          </p:nvSpPr>
          <p:spPr>
            <a:xfrm>
              <a:off x="5227560" y="3952800"/>
              <a:ext cx="7527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3" name="Line 34"/>
            <p:cNvSpPr/>
            <p:nvPr/>
          </p:nvSpPr>
          <p:spPr>
            <a:xfrm>
              <a:off x="5227560" y="3952800"/>
              <a:ext cx="15051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4" name="Line 35"/>
            <p:cNvSpPr/>
            <p:nvPr/>
          </p:nvSpPr>
          <p:spPr>
            <a:xfrm>
              <a:off x="5227560" y="4627440"/>
              <a:ext cx="1505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5" name="Line 36"/>
            <p:cNvSpPr/>
            <p:nvPr/>
          </p:nvSpPr>
          <p:spPr>
            <a:xfrm>
              <a:off x="5227560" y="5313240"/>
              <a:ext cx="15051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6" name="Line 37"/>
            <p:cNvSpPr/>
            <p:nvPr/>
          </p:nvSpPr>
          <p:spPr>
            <a:xfrm>
              <a:off x="5227560" y="395280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7" name="Line 38"/>
            <p:cNvSpPr/>
            <p:nvPr/>
          </p:nvSpPr>
          <p:spPr>
            <a:xfrm>
              <a:off x="5980320" y="395280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8" name="Line 39"/>
            <p:cNvSpPr/>
            <p:nvPr/>
          </p:nvSpPr>
          <p:spPr>
            <a:xfrm>
              <a:off x="6732720" y="395280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09" name="Text Box 40"/>
          <p:cNvSpPr/>
          <p:nvPr/>
        </p:nvSpPr>
        <p:spPr>
          <a:xfrm>
            <a:off x="5219640" y="381960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灯</a:t>
            </a: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0" name="Group 29"/>
          <p:cNvGrpSpPr/>
          <p:nvPr/>
        </p:nvGrpSpPr>
        <p:grpSpPr>
          <a:xfrm>
            <a:off x="115920" y="1982880"/>
            <a:ext cx="1503360" cy="1358640"/>
            <a:chOff x="115920" y="1982880"/>
            <a:chExt cx="1503360" cy="1358640"/>
          </a:xfrm>
        </p:grpSpPr>
        <p:sp>
          <p:nvSpPr>
            <p:cNvPr id="611" name="Rectangle 30"/>
            <p:cNvSpPr/>
            <p:nvPr/>
          </p:nvSpPr>
          <p:spPr>
            <a:xfrm>
              <a:off x="867600" y="2656800"/>
              <a:ext cx="7513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2" name="Rectangle 31"/>
            <p:cNvSpPr/>
            <p:nvPr/>
          </p:nvSpPr>
          <p:spPr>
            <a:xfrm>
              <a:off x="115920" y="2656800"/>
              <a:ext cx="751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3" name="Rectangle 32"/>
            <p:cNvSpPr/>
            <p:nvPr/>
          </p:nvSpPr>
          <p:spPr>
            <a:xfrm>
              <a:off x="867600" y="1982880"/>
              <a:ext cx="75132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4" name="Rectangle 33"/>
            <p:cNvSpPr/>
            <p:nvPr/>
          </p:nvSpPr>
          <p:spPr>
            <a:xfrm>
              <a:off x="115920" y="1982880"/>
              <a:ext cx="7516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5" name="Line 34"/>
            <p:cNvSpPr/>
            <p:nvPr/>
          </p:nvSpPr>
          <p:spPr>
            <a:xfrm>
              <a:off x="115920" y="19828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6" name="Line 35"/>
            <p:cNvSpPr/>
            <p:nvPr/>
          </p:nvSpPr>
          <p:spPr>
            <a:xfrm>
              <a:off x="115920" y="265680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7" name="Line 36"/>
            <p:cNvSpPr/>
            <p:nvPr/>
          </p:nvSpPr>
          <p:spPr>
            <a:xfrm>
              <a:off x="115920" y="33415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8" name="Line 37"/>
            <p:cNvSpPr/>
            <p:nvPr/>
          </p:nvSpPr>
          <p:spPr>
            <a:xfrm>
              <a:off x="115920" y="1982880"/>
              <a:ext cx="0" cy="13586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9" name="Line 38"/>
            <p:cNvSpPr/>
            <p:nvPr/>
          </p:nvSpPr>
          <p:spPr>
            <a:xfrm>
              <a:off x="867600" y="198288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0" name="Line 39"/>
            <p:cNvSpPr/>
            <p:nvPr/>
          </p:nvSpPr>
          <p:spPr>
            <a:xfrm>
              <a:off x="1619280" y="1982880"/>
              <a:ext cx="0" cy="13586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21" name="Text Box 40"/>
          <p:cNvSpPr/>
          <p:nvPr/>
        </p:nvSpPr>
        <p:spPr>
          <a:xfrm>
            <a:off x="181080" y="188424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封</a:t>
            </a: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2" name="Group 29"/>
          <p:cNvGrpSpPr/>
          <p:nvPr/>
        </p:nvGrpSpPr>
        <p:grpSpPr>
          <a:xfrm>
            <a:off x="7089840" y="3959280"/>
            <a:ext cx="1503360" cy="1359000"/>
            <a:chOff x="7089840" y="3959280"/>
            <a:chExt cx="1503360" cy="1359000"/>
          </a:xfrm>
        </p:grpSpPr>
        <p:sp>
          <p:nvSpPr>
            <p:cNvPr id="623" name="Rectangle 30"/>
            <p:cNvSpPr/>
            <p:nvPr/>
          </p:nvSpPr>
          <p:spPr>
            <a:xfrm>
              <a:off x="7841520" y="4633200"/>
              <a:ext cx="7513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4" name="Rectangle 31"/>
            <p:cNvSpPr/>
            <p:nvPr/>
          </p:nvSpPr>
          <p:spPr>
            <a:xfrm>
              <a:off x="7089840" y="4633200"/>
              <a:ext cx="751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5" name="Rectangle 32"/>
            <p:cNvSpPr/>
            <p:nvPr/>
          </p:nvSpPr>
          <p:spPr>
            <a:xfrm>
              <a:off x="7841520" y="3959280"/>
              <a:ext cx="75132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6" name="Rectangle 33"/>
            <p:cNvSpPr/>
            <p:nvPr/>
          </p:nvSpPr>
          <p:spPr>
            <a:xfrm>
              <a:off x="7089840" y="3959280"/>
              <a:ext cx="7516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7089840" y="39592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7089840" y="463320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7089840" y="53182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7089840" y="395928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1" name="Line 38"/>
            <p:cNvSpPr/>
            <p:nvPr/>
          </p:nvSpPr>
          <p:spPr>
            <a:xfrm>
              <a:off x="7841520" y="395928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2" name="Line 39"/>
            <p:cNvSpPr/>
            <p:nvPr/>
          </p:nvSpPr>
          <p:spPr>
            <a:xfrm>
              <a:off x="8593200" y="395928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33" name="Text Box 40"/>
          <p:cNvSpPr/>
          <p:nvPr/>
        </p:nvSpPr>
        <p:spPr>
          <a:xfrm>
            <a:off x="7205760" y="384984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电</a:t>
            </a: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34" name="Group 29"/>
          <p:cNvGrpSpPr/>
          <p:nvPr/>
        </p:nvGrpSpPr>
        <p:grpSpPr>
          <a:xfrm>
            <a:off x="1771560" y="1987560"/>
            <a:ext cx="1505160" cy="1360440"/>
            <a:chOff x="1771560" y="1987560"/>
            <a:chExt cx="1505160" cy="1360440"/>
          </a:xfrm>
        </p:grpSpPr>
        <p:sp>
          <p:nvSpPr>
            <p:cNvPr id="635" name="Rectangle 30"/>
            <p:cNvSpPr/>
            <p:nvPr/>
          </p:nvSpPr>
          <p:spPr>
            <a:xfrm>
              <a:off x="2524320" y="266220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6" name="Rectangle 31"/>
            <p:cNvSpPr/>
            <p:nvPr/>
          </p:nvSpPr>
          <p:spPr>
            <a:xfrm>
              <a:off x="1771560" y="2662200"/>
              <a:ext cx="752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7" name="Rectangle 32"/>
            <p:cNvSpPr/>
            <p:nvPr/>
          </p:nvSpPr>
          <p:spPr>
            <a:xfrm>
              <a:off x="2524320" y="198756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8" name="Rectangle 33"/>
            <p:cNvSpPr/>
            <p:nvPr/>
          </p:nvSpPr>
          <p:spPr>
            <a:xfrm>
              <a:off x="1771560" y="1987560"/>
              <a:ext cx="7527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9" name="Line 34"/>
            <p:cNvSpPr/>
            <p:nvPr/>
          </p:nvSpPr>
          <p:spPr>
            <a:xfrm>
              <a:off x="1771560" y="1987560"/>
              <a:ext cx="15051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0" name="Line 35"/>
            <p:cNvSpPr/>
            <p:nvPr/>
          </p:nvSpPr>
          <p:spPr>
            <a:xfrm>
              <a:off x="1771560" y="2662200"/>
              <a:ext cx="1505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1" name="Line 36"/>
            <p:cNvSpPr/>
            <p:nvPr/>
          </p:nvSpPr>
          <p:spPr>
            <a:xfrm>
              <a:off x="1771560" y="3348000"/>
              <a:ext cx="15051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2" name="Line 37"/>
            <p:cNvSpPr/>
            <p:nvPr/>
          </p:nvSpPr>
          <p:spPr>
            <a:xfrm>
              <a:off x="1771560" y="198756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3" name="Line 38"/>
            <p:cNvSpPr/>
            <p:nvPr/>
          </p:nvSpPr>
          <p:spPr>
            <a:xfrm>
              <a:off x="2524320" y="198756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4" name="Line 39"/>
            <p:cNvSpPr/>
            <p:nvPr/>
          </p:nvSpPr>
          <p:spPr>
            <a:xfrm>
              <a:off x="3276720" y="198756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45" name="Text Box 40"/>
          <p:cNvSpPr/>
          <p:nvPr/>
        </p:nvSpPr>
        <p:spPr>
          <a:xfrm>
            <a:off x="1906560" y="188928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信</a:t>
            </a: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矩形 1"/>
          <p:cNvSpPr/>
          <p:nvPr/>
        </p:nvSpPr>
        <p:spPr>
          <a:xfrm>
            <a:off x="4455720" y="3244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ī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Text Box 40"/>
          <p:cNvSpPr/>
          <p:nvPr/>
        </p:nvSpPr>
        <p:spPr>
          <a:xfrm>
            <a:off x="179280" y="387504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枝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48" name="Group 29"/>
          <p:cNvGrpSpPr/>
          <p:nvPr/>
        </p:nvGrpSpPr>
        <p:grpSpPr>
          <a:xfrm>
            <a:off x="179280" y="3978360"/>
            <a:ext cx="1505160" cy="1360440"/>
            <a:chOff x="179280" y="3978360"/>
            <a:chExt cx="1505160" cy="1360440"/>
          </a:xfrm>
        </p:grpSpPr>
        <p:sp>
          <p:nvSpPr>
            <p:cNvPr id="649" name="Rectangle 30"/>
            <p:cNvSpPr/>
            <p:nvPr/>
          </p:nvSpPr>
          <p:spPr>
            <a:xfrm>
              <a:off x="932040" y="465300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0" name="Rectangle 31"/>
            <p:cNvSpPr/>
            <p:nvPr/>
          </p:nvSpPr>
          <p:spPr>
            <a:xfrm>
              <a:off x="179280" y="4653000"/>
              <a:ext cx="752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1" name="Rectangle 32"/>
            <p:cNvSpPr/>
            <p:nvPr/>
          </p:nvSpPr>
          <p:spPr>
            <a:xfrm>
              <a:off x="932040" y="397836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2" name="Rectangle 33"/>
            <p:cNvSpPr/>
            <p:nvPr/>
          </p:nvSpPr>
          <p:spPr>
            <a:xfrm>
              <a:off x="179280" y="3978360"/>
              <a:ext cx="7527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3" name="Line 34"/>
            <p:cNvSpPr/>
            <p:nvPr/>
          </p:nvSpPr>
          <p:spPr>
            <a:xfrm>
              <a:off x="179280" y="3978360"/>
              <a:ext cx="15051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4" name="Line 35"/>
            <p:cNvSpPr/>
            <p:nvPr/>
          </p:nvSpPr>
          <p:spPr>
            <a:xfrm>
              <a:off x="179280" y="4653000"/>
              <a:ext cx="1505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5" name="Line 36"/>
            <p:cNvSpPr/>
            <p:nvPr/>
          </p:nvSpPr>
          <p:spPr>
            <a:xfrm>
              <a:off x="179280" y="5338800"/>
              <a:ext cx="15051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6" name="Line 37"/>
            <p:cNvSpPr/>
            <p:nvPr/>
          </p:nvSpPr>
          <p:spPr>
            <a:xfrm>
              <a:off x="179280" y="397836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7" name="Line 38"/>
            <p:cNvSpPr/>
            <p:nvPr/>
          </p:nvSpPr>
          <p:spPr>
            <a:xfrm>
              <a:off x="932040" y="397836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8" name="Line 39"/>
            <p:cNvSpPr/>
            <p:nvPr/>
          </p:nvSpPr>
          <p:spPr>
            <a:xfrm>
              <a:off x="1684440" y="397836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01:26:00Z</dcterms:created>
  <dc:creator/>
  <dc:description/>
  <dc:language>en-US</dc:language>
  <cp:lastModifiedBy>万润仪器贸易公司</cp:lastModifiedBy>
  <dcterms:modified xsi:type="dcterms:W3CDTF">2020-08-19T01:33:57Z</dcterms:modified>
  <cp:revision>4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